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059-47D2-4B71-BA1E-9AB0882B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1DC-4378-4863-8D51-581FD969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7BB0D-72F6-4A51-8795-6CDD66D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27ED9-8A9D-4805-9461-91A7B06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4A2D2-668C-43C1-9B94-C6630B2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237C1-145B-41D7-8BCA-618D3B1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D374E-199C-4450-9933-DF4E29AE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9B924-2965-4020-B330-44897EF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4407C-6449-420A-81F8-14D4B4D8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E8125-2554-41C2-B502-8FD342AA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FEFC1-2B61-40B2-AE41-5DC52CE3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C7780-23D3-41E8-9E22-14E870F1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739-AF49-472E-B9E9-62412FFB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498FC-904F-44BF-AB40-97A268A3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27D6C-61FB-410C-8044-E3DD99F2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C595C-F9D7-4BD3-AB4B-FC180430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52F2A-77D2-4C8E-953A-0E68B83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6688E-5E72-432D-A23E-87E98F45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04F78-3D06-43D5-86F6-4F960F97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E9FF6-CFED-4605-9FE6-C48DF273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FB2BE-F4B0-4EF0-9EF3-19EAF90B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4FAEE-7108-45C5-8BAC-A4C56306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6527C-25E3-458E-9997-9E449CE2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3DD-96D2-4C44-9EF5-012F527F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C9AC7-3BB5-4FFD-B73D-4B2E1C4E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15C2D-ED30-4CE0-B3E6-1A9A8AE4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0081E-2D4A-43DD-A72C-0C40D6FA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8AA6A-B60B-46E8-A217-776E3BF8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90D5A-64A0-4123-A5F6-58C934FC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EA51E-0AA0-445C-966B-4CC59ED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74E6-5EE4-41D0-823F-B68959B0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6FD7-0573-4947-AB76-212511D1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86BDB-2230-45FE-BDBA-15C6A0D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8094F-7711-4668-8322-B164076E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F107-EC14-4222-A316-3D3534CF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C1421-B9CF-4BB8-B1D6-F2447E4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CC7BD-E9B1-4A69-A28E-5365FAAD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D8B4F-C327-4731-9F29-F355A4BF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5FEFF-8319-4CEC-8B45-9EC3E5E0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6265E-8D0C-4201-9BB4-A912E0A2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84930-754C-4800-8C73-704D9EF7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132A7-0298-459B-9E1D-4BAE3AC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44A47-6DD8-4F72-AE08-5F4071E5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FDC88-E9F7-4684-9724-8AB0289E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AB207-5501-4BD4-B01F-F0A3368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7D6-D937-4C0F-9F6F-1A947D81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89E7D-3B9A-4892-9067-B56D93CA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D37C9-F85E-4341-AF8E-D8AA322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50923-61EE-4B0C-9A97-B9F7374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6313B-05AA-4BFB-A22F-176C6309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87DFB-5E55-4270-B479-0235083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45B2-D3B6-47FC-8277-93D796C5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19AC-C38E-4188-AA88-95151DC9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040B-328A-42CD-9DFD-F3A16A15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3A8D-887B-470F-9368-F36C8DF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24EC-DCDF-4456-AF68-5A36081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B00-6397-441C-9068-B5165EA7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7954-014E-4B0B-8E3C-396DE073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EF22-FB87-4231-A8A1-4847EBF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0243-C7DC-4EE7-8CF2-910585AF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27E1-7D54-41BD-9EFD-60017AD6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0194-6DCA-4B2A-9556-6E27C13C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F374-8EED-4A4E-AD56-229B6374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EE59-1E2B-42BB-99EB-27766E43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09D6-AE1C-48BA-8B3A-97A4064A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C944-6792-4632-84CF-895C85D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BE88E-24EA-43DD-93E3-95CCB7E2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729-C4C0-4F61-91A1-12B202EC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5E83-0FB8-48AC-AA3B-12DAC4B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201A-B932-4D21-ACBE-9F3F5E0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2974-0A88-4177-A986-CF1D9503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E783-2FE9-47B2-826B-BE0A358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B74E-F909-49F3-ABEA-A8E9E84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5691-0411-4A78-B8F6-4407AB22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E2BB-7E43-4F43-8C9C-0202FEED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55C0-D01B-4066-9D06-0EDEE108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EE51-F470-486B-B47B-81182CD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FF71-DC55-4056-83C8-0CCF7E70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95A-26AF-4786-9A57-F07A08CB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00EB-1390-4A37-8145-6CCD3ED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2F55-3199-49E8-AFC7-07A75DF5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A8F7-D71D-4370-BAD4-ED266AF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C0AB-7FD7-4E38-9E37-6E68120B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BC6E-977C-44F1-99D3-D0509DC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EB1C-544A-4F1F-BE70-AF5AD6EB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CD28-F775-421E-8777-AEF9F188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9AE9D-CF77-42E0-B10C-89A72293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36B7-D63D-41CB-8568-EE12B991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49A4-4A2F-4C58-8079-4FA7AF1C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58E-E977-453E-9B33-6C69BAD4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90CBB-AA7C-4F68-BB15-D475F815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01AB-ED7F-4C0A-816C-1896B4A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F53B-CB6F-4B91-A9A6-7FFE1AE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AF6B-6069-407B-8954-3141DA8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09480-9B36-4324-82BB-1794E9AF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C8A2-9F1B-4A91-9AC4-7CA232B4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0858-466D-40BA-B9B2-A6AF501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DC91-1A2E-43C6-895C-7DC60F3C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D652-95E8-420F-997B-1070A342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927C-3FBB-4983-9D05-0AF680AB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17C-4F64-493A-B0DB-27CADB21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6CB9-CAB4-4566-9D4C-BB359044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11080-EA0A-40EF-B96C-A70680A8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9558A-2202-40C8-A3E8-A257C99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C3378-EDF3-41BD-BE30-6AE4D6E7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09E2-6B62-4933-94FF-8438CFC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C8074-4376-41CC-8ED0-E3C0FF1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F012A-6403-4C86-A71E-788A0790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86EE7-27CF-4D7C-B498-8173BE5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C3CB-0692-48DD-9119-59AD3FD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81DC1-4DA3-4980-9BAD-C1F135F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119-C4C0-4771-831F-6DA9A93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4195-40BC-4404-89FF-96677F4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333CD-18E7-47E9-8652-A47D2FC0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C69B6-CC67-400C-B3B2-DB63BC0C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276C-C264-4DC7-B6C6-C0A0BAF2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03C2-D288-46B1-8A4D-007E1166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28BC4-91BA-43E0-8F72-A363BA0C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26C09-0F14-456A-B765-897A5E4D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7D7B0-BD12-4424-A374-1171B571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13FC5-9D4D-46F1-9F02-5B892266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681D9-E746-4CFB-B026-53F0BFB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B40-C0E9-4C2D-96D0-328D0CCD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DA06B-3567-453F-A500-D0394AE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9C60-AB32-48F3-B185-B77CCC3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903B5-2C59-44E0-81CD-7039F360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B427-E977-4CFA-A17D-41B614F7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C8DF-A701-4E9B-B246-11E25305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EE1D-1A52-4306-8823-D7923002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FB754-85D8-480D-A01E-DEC085C8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31D71-A571-4096-A1FC-F7A5EBDD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16AB-CF41-4A5F-A5BC-A7475CDF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51B01-8983-4757-8499-ED730C7C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4BC-489E-41C7-BD1C-ACD89C3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1A25D-C90F-45AB-B594-111E745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4DEFE-9395-455C-9FB8-F882560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8C45-5B4C-4F5F-AA8C-87E17322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B1296-72D0-4C04-97F6-AB97649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D2EB-0F3A-4735-9E2B-FD4D34D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82727-36DC-49B4-B0EB-7E5E0CB3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AAEA-B455-4D28-A313-87A738F3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7B983-A83F-45F0-9DD1-853EB879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BD5D1-9418-4E70-955F-51E3D2B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23F6D-30EE-4E58-8DDF-A06832D9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C50D-38C7-4DC0-947F-61531311A1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D44B-FCC4-4916-A280-E914A1B64F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F25F-0A69-48E4-AE66-A0F9E7A6F7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551D-6EBE-46F8-A6B2-AE81B40167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E5BB-78C7-4CAD-A738-F16268178F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CDD-89BD-432F-AF02-7633F99051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EB4-F0AE-403D-A95E-F6F3DF961F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130-E23E-4CDD-ACF5-B09F22BB94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95F-747B-4E63-B0BD-CA6D499B1F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BD4D-1580-46F1-A341-CB82B21ED9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C28-BDB6-48D8-A476-67ADBE4185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2E7-DAAE-4C51-88FA-3EB98AF866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7 Hoc zármutok trápi 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istota stála, ty spásy si ští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zármutok trápi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viera bô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dušu stiesne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eň doľaho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úbohý, bied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ím chce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istota stála, ty spásy si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 závetrí vľúdn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 prívale vô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trápení nájsť nev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porný b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áplava hrôz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chce pohl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istota stála, ty spásy si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úzkostiach nevid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y sme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tmách pochýb stráca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rdca mi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úfalstva smútok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vládzem skr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43:21Z</dcterms:modified>
  <cp:revision>22</cp:revision>
  <dc:subject/>
  <dc:title>Je veľký náš Pán, on slávy je Kráľ Nech do všetkých strán  spev vrúcnych znie chvál.</dc:title>
</cp:coreProperties>
</file>